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86F-B91E-42F6-9DCB-F497EF26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21A-A399-46AD-8D0E-FE7DCA7D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A2C9-4123-4D1A-9826-5A6AE47B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B62-158E-4B52-8E4C-98F1D22B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DE96-B3BA-45CE-A472-9CC431AA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100D-E12A-487D-90BA-89B78178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CBF0-8B60-4FC6-B14A-31303176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0872-6EF0-4F20-9467-A6D781C8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07B5-5BE0-49F9-AE59-E16B8EB5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FD12-4144-4696-A42D-13E6E31C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AF6D-A637-46C3-9119-3340366C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A58B-FB1D-4201-A0C0-F6396A34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6600-0366-4068-BC8C-FFA94F2E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377F-2363-4258-85FF-F93595C0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322A-A2D9-4133-A68B-F86DC8F3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7327-25EB-4311-AFA5-ED0565BB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2DD7-33FF-4E3A-B788-87F34B3F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060C-8D58-4185-9A33-022F9753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E803-F882-4ACD-B73C-3899AC1F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A7D-2A7E-4B55-B1FE-4296DD9C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77B-E22A-4311-8E49-8B415042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B93-180C-4D8E-A817-EE4C187F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B4F-AC04-4A4A-8328-D4F6D436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A3F-18CF-4C23-B38C-C0E0AD35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3DA6-DE2A-4C13-94AB-03A172FD77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C6FF-1CA1-4E45-9AF6-9C86D057C7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25945;&#32946;&#31185;&#23398;&#35838;&#39064;&#32467;&#39064;&#23553;&#38754;.doc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35838;&#39064;&#21464;&#26356;&#30003;&#35831;&#34920;.doc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24352;&#23478;&#21475;&#24066;&#25945;&#32946;&#31185;&#23398;&#35268;&#21010;&#35838;&#39064;&#25104;&#26524;&#37492;&#23450;&#35777;&#20070;.doc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35838;&#39064;&#32467;&#39064;&#21517;&#21333;&#27719;&#24635;&#34920;.xls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ffff"/>
                </a:solidFill>
                <a:latin typeface="Arial"/>
                <a:ea typeface="黑体"/>
              </a:rPr>
              <a:t>市课题结题资料要求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2071800" y="3929040"/>
            <a:ext cx="4429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7373"/>
                </a:solidFill>
                <a:latin typeface="Arial"/>
              </a:rPr>
              <a:t>2021</a:t>
            </a:r>
            <a:r>
              <a:rPr b="0" lang="zh-CN" sz="2400" spc="-1" strike="noStrike">
                <a:solidFill>
                  <a:srgbClr val="4d7373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4d7373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4d7373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4d7373"/>
                </a:solidFill>
                <a:latin typeface="Arial"/>
              </a:rPr>
              <a:t>28</a:t>
            </a:r>
            <a:r>
              <a:rPr b="0" lang="zh-CN" sz="2400" spc="-1" strike="noStrike">
                <a:solidFill>
                  <a:srgbClr val="4d7373"/>
                </a:solidFill>
                <a:latin typeface="Arial"/>
              </a:rPr>
              <a:t>日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成果性资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、主要成果资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知识类研究成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报告类：研究报告、调查报告、实验报告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论文类：论述、综述、评述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著作类：专著、编著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案类研究成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改革方案、政策法规、咨询报告、发展规划和实施建议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类研究成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视听媒体；多媒体课件、素材；网络课程；仿真教学系统；教学管理软件；教学网络环境；学习平台等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成果性资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120" y="1599840"/>
            <a:ext cx="8139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其他成果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各种与课题相关的获奖证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典型的教学设计、课堂教学实录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课题研究中撰写的教育日志、教育叙事、教育案例和经验文章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有关成果效益与影响的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结题资料的准备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5640" y="155736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纸质材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84360" y="335772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子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　　　　　纸质资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53452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题立项评审书（原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期评价表（原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更申请书（一式三份，加盖公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成果鉴定证书（一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题研究报告（一式三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开题报告、调查报告、研究方案和中期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各一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：以上资料放在一个档案袋里，资料要有</a:t>
            </a:r>
            <a:r>
              <a:rPr b="0" lang="zh-CN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封 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变更申请的填写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42600" y="16426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填写时不要改变原表的格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填写信息要准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要加盖公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变更申请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结题鉴定书的填写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928800" y="1857240"/>
            <a:ext cx="69292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常见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改变表的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员分工填写不规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成果</a:t>
            </a:r>
            <a:r>
              <a:rPr b="0" lang="zh-CN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鉴定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　　　　　　电子资料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023840" y="1562040"/>
            <a:ext cx="4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66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84360" y="1268280"/>
            <a:ext cx="7848360" cy="47804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必备类：立项评审书、中期评价表（照片）、鉴定意见书、变更申请书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题组成员名单汇总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报告类：开题报告、研究方案、调查报告、中期总结和研究报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研究类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调查资料：调查问卷（学校领导、教师、学生、家长）、访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记录、观察记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会议记录：课题组活动安排、记录，组织学习的记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理论学习资料：文献资料、讲座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学研究资料：教学设计、导学案、教育案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片类：学生作品、老师作品、教具等（最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果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文：发表的论文、获奖的论文和自己写的论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案例集 、教育日志、课例等 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获奖证书：老师、学生（最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张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件（最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课题组成员名单汇总表的填写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常见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题名称加书名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员姓名不认真核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0" lang="zh-CN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成员汇总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子资料的大小不超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M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要有视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资料，电子文件夹的建立要层次清晰、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类合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电子资料报送要求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280" y="191628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每个课题建立一个文件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文件夹命名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单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持人姓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变更申请、结题鉴定书、成员汇总表中的课题组成员顺序要一致，主持人加课题组成员最多十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结题的基本条件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1599840"/>
            <a:ext cx="8066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是立项时间两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是参加过中期总结，建议结题时间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或之前的“十三五”课题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是参加结题培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电子资料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000" y="1197000"/>
            <a:ext cx="792468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971640" y="3716280"/>
            <a:ext cx="122400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000080" y="37861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2214720" y="2286000"/>
            <a:ext cx="431640" cy="3313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2643120" y="1928880"/>
            <a:ext cx="136836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2571840" y="3000240"/>
            <a:ext cx="136836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2643120" y="3929040"/>
            <a:ext cx="136836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2714760" y="5286240"/>
            <a:ext cx="136836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2786040" y="19288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必备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2643120" y="30718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报告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2786040" y="39290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研究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2786040" y="52862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成果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直接箭头连接符 15"/>
          <p:cNvCxnSpPr/>
          <p:nvPr/>
        </p:nvCxnSpPr>
        <p:spPr>
          <a:xfrm>
            <a:off x="4214880" y="2142720"/>
            <a:ext cx="643320" cy="252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45" name="直接箭头连接符 19"/>
          <p:cNvCxnSpPr/>
          <p:nvPr/>
        </p:nvCxnSpPr>
        <p:spPr>
          <a:xfrm>
            <a:off x="4214880" y="3214800"/>
            <a:ext cx="643320" cy="216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sp>
        <p:nvSpPr>
          <p:cNvPr id="146" name="左大括号 21"/>
          <p:cNvSpPr/>
          <p:nvPr/>
        </p:nvSpPr>
        <p:spPr>
          <a:xfrm>
            <a:off x="4357800" y="3571920"/>
            <a:ext cx="571320" cy="10713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071360"/>
              <a:gd name="textAreaBottom" fmla="*/ 1056600 h 107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0"/>
                  <a:pt x="10800" y="960"/>
                </a:cubicBezTo>
                <a:lnTo>
                  <a:pt x="10800" y="9840"/>
                </a:lnTo>
                <a:cubicBezTo>
                  <a:pt x="10800" y="10320"/>
                  <a:pt x="5400" y="10800"/>
                  <a:pt x="0" y="10800"/>
                </a:cubicBezTo>
                <a:cubicBezTo>
                  <a:pt x="5400" y="10800"/>
                  <a:pt x="10800" y="11280"/>
                  <a:pt x="10800" y="11760"/>
                </a:cubicBezTo>
                <a:lnTo>
                  <a:pt x="10800" y="20640"/>
                </a:lnTo>
                <a:cubicBezTo>
                  <a:pt x="10800" y="2112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3c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左大括号 22"/>
          <p:cNvSpPr/>
          <p:nvPr/>
        </p:nvSpPr>
        <p:spPr>
          <a:xfrm>
            <a:off x="4286160" y="5072040"/>
            <a:ext cx="857520" cy="1071720"/>
          </a:xfrm>
          <a:custGeom>
            <a:avLst/>
            <a:gdLst>
              <a:gd name="textAreaLeft" fmla="*/ 547920 w 857520"/>
              <a:gd name="textAreaRight" fmla="*/ 857880 w 857520"/>
              <a:gd name="textAreaTop" fmla="*/ 22320 h 1071720"/>
              <a:gd name="textAreaBottom" fmla="*/ 104940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20"/>
                  <a:pt x="10800" y="1440"/>
                </a:cubicBezTo>
                <a:lnTo>
                  <a:pt x="10800" y="9360"/>
                </a:lnTo>
                <a:cubicBezTo>
                  <a:pt x="10800" y="10080"/>
                  <a:pt x="5400" y="10800"/>
                  <a:pt x="0" y="10800"/>
                </a:cubicBezTo>
                <a:cubicBezTo>
                  <a:pt x="5400" y="10800"/>
                  <a:pt x="10800" y="11520"/>
                  <a:pt x="10800" y="12240"/>
                </a:cubicBezTo>
                <a:lnTo>
                  <a:pt x="10800" y="20160"/>
                </a:lnTo>
                <a:cubicBezTo>
                  <a:pt x="10800" y="2088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3c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3"/>
          <p:cNvSpPr/>
          <p:nvPr/>
        </p:nvSpPr>
        <p:spPr>
          <a:xfrm>
            <a:off x="5904720" y="171468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立项评审书、成果鉴定证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变更申请书、中期评价表（照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题组成员名单汇总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4932360" y="2852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开题报告、研究方案、调查报告、中期总结和研究报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5003640" y="342900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调查问卷、访谈记录、文献稿、讲座稿、教学设计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5076720" y="4292640"/>
            <a:ext cx="79056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5076720" y="42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片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5"/>
          <p:cNvSpPr/>
          <p:nvPr/>
        </p:nvSpPr>
        <p:spPr>
          <a:xfrm>
            <a:off x="5143680" y="5000760"/>
            <a:ext cx="792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6"/>
          <p:cNvSpPr/>
          <p:nvPr/>
        </p:nvSpPr>
        <p:spPr>
          <a:xfrm>
            <a:off x="5143680" y="5640480"/>
            <a:ext cx="122364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7"/>
          <p:cNvSpPr/>
          <p:nvPr/>
        </p:nvSpPr>
        <p:spPr>
          <a:xfrm>
            <a:off x="5219640" y="5950080"/>
            <a:ext cx="79236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9"/>
          <p:cNvSpPr/>
          <p:nvPr/>
        </p:nvSpPr>
        <p:spPr>
          <a:xfrm>
            <a:off x="5143680" y="55720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获奖证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9"/>
          <p:cNvSpPr/>
          <p:nvPr/>
        </p:nvSpPr>
        <p:spPr>
          <a:xfrm>
            <a:off x="5072040" y="52862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案例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市规划办电话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610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矩形 3" descr=""/>
          <p:cNvPicPr/>
          <p:nvPr/>
        </p:nvPicPr>
        <p:blipFill>
          <a:blip r:embed="rId1"/>
          <a:stretch/>
        </p:blipFill>
        <p:spPr>
          <a:xfrm>
            <a:off x="390600" y="2962440"/>
            <a:ext cx="2504880" cy="933120"/>
          </a:xfrm>
          <a:prstGeom prst="rect">
            <a:avLst/>
          </a:prstGeom>
          <a:ln w="0">
            <a:noFill/>
          </a:ln>
        </p:spPr>
      </p:pic>
      <p:pic>
        <p:nvPicPr>
          <p:cNvPr id="161" name="矩形 4" descr=""/>
          <p:cNvPicPr/>
          <p:nvPr/>
        </p:nvPicPr>
        <p:blipFill>
          <a:blip r:embed="rId2"/>
          <a:stretch/>
        </p:blipFill>
        <p:spPr>
          <a:xfrm>
            <a:off x="2365200" y="3071880"/>
            <a:ext cx="3657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结题的条件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8177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是达到课题研究的目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是课题研究各阶段的工作、活动全面落实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是完成预期的研究成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四是课题研究的成果质量、水平达到一定的要求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五是课题研究的各项资料齐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结题鉴定的形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位自行组织结题（会议鉴定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本次结题数量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项以上（含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项）的单位要求自己组织结题鉴定。鉴定会后，由市规划办复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市规划办负责结题（集中鉴定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结题数量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项以下（含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项）的单位由规划办统一进行结题鉴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结题工作时间安排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集中结题资料送交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１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县区学校由教研室统一收齐后交市规划办。市属高校、省示范性高中和市直学校由学校负责科研工作的同志交市规划办。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交市规划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２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课题组交资料的时间以县区教研室、市属高校、省示范性高中和市直学校的通知时间为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课题鉴定结果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6820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鉴定结果分两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、通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、不通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文献资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献资料的分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献按信息载体分，主要有印刷型、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机阅读型和直接记录声音和图像的直感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料等几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研究资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资料的分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题研究资料包括课题研究过程中形成的全部资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据资料的性质分为：文字类资料、活动类资料、音像类资料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据研究的阶段分为：前期资料、中期资料和后期资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研究资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活动资料的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期总结资料（开题报告、研究方案、中期总结、论文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调查问卷及数据统计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研究过程中进行观察、实验或采用其他科研方法所形成的的访谈记录、观察记录及实验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研究过程中制定的一些学习制度、培训制度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关课题的活动安排和会议记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关课题研究的课例、案例、札记、学习笔记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01:58:51Z</dcterms:created>
  <dc:creator>wym</dc:creator>
  <dc:description/>
  <dc:language>en-US</dc:language>
  <cp:lastModifiedBy>a1</cp:lastModifiedBy>
  <dcterms:modified xsi:type="dcterms:W3CDTF">2021-04-29T01:12:43Z</dcterms:modified>
  <cp:revision>349</cp:revision>
  <dc:subject/>
  <dc:title>表格数据的图形化</dc:title>
</cp:coreProperties>
</file>