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595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6600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86328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66360" y="4686120"/>
            <a:ext cx="53276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773160" y="937080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3A8-8454-47BE-8895-C52824135D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9371160"/>
            <a:ext cx="2886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773520" y="9371160"/>
            <a:ext cx="2886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CEE9-56FB-4EBB-AA71-B2E431ED58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6364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686120"/>
            <a:ext cx="53276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476-92A4-4E68-84CB-EDFF60E6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00A-CF17-4BDF-BDBF-FA475960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79F-0970-4E81-922A-0919E2A5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B50-0C7A-44DC-BC91-191B598B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F9B0-0316-4E8F-BF00-4A33F18F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3CD-DAD0-42D7-AFA8-36DE9F2B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2297-CE07-4332-B074-862EC8E4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F031-796D-4C03-963D-A6E77EC3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48B8-2A40-45EF-802E-049A94C9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48D7-7C04-4FD3-825D-094ED39C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7F8F-485C-407A-BDAC-96E1CAA8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D7F-4C9F-4007-98A8-7157B96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6F2-D374-41BE-9264-BD0693D5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D19B-F14A-4757-A3E1-1A1665F6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09E7-64CC-4843-82E4-B0B8DDD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7E7F-2E12-4FF4-88CC-A442190E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C54C-AF18-42CD-A1D6-A0861376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8F5-A1F7-48B7-9260-2078C38C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BE5-5409-4DD9-85F5-2807E3CE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537-998B-48E0-AB5E-595B852B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F7A-A80B-4885-9BDB-DBA34AE1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D39-7587-4AA3-A4A4-F0F8C2CD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1FD-525B-48BE-8B61-BF99622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B3D-0878-439B-B812-3BCD8437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a9"/>
            </a:gs>
            <a:gs pos="50000">
              <a:srgbClr val="ffffff"/>
            </a:gs>
            <a:gs pos="100000">
              <a:srgbClr val="a9a9a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2600" y="0"/>
            <a:ext cx="8542080" cy="1052280"/>
            <a:chOff x="12600" y="0"/>
            <a:chExt cx="8542080" cy="1052280"/>
          </a:xfrm>
        </p:grpSpPr>
        <p:sp>
          <p:nvSpPr>
            <p:cNvPr id="1" name="Rectangle 3"/>
            <p:cNvSpPr/>
            <p:nvPr/>
          </p:nvSpPr>
          <p:spPr>
            <a:xfrm>
              <a:off x="30312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1080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2696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79668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2600" y="4572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47640" y="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328320" y="7905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9E1-792C-4331-A9CA-A245778BF32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a9"/>
            </a:gs>
            <a:gs pos="50000">
              <a:srgbClr val="ffffff"/>
            </a:gs>
            <a:gs pos="100000">
              <a:srgbClr val="a9a9a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25B-A131-4739-80E4-D9225FD5203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41F6-B7A9-4546-9494-053B635815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301760" y="409680"/>
            <a:ext cx="49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省级课题结题</a:t>
            </a:r>
            <a:endParaRPr b="1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95280" y="227664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教育科研课题研究报告的撰写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1AD-D6E8-40AC-A1A1-C4A664D65C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99680" y="928440"/>
            <a:ext cx="79614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七、课题研究的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观察法、调查法、实验法、经验总结法、个案法、比较研究法、文献资料法等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八、课题研究过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一阶段（准备阶段）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查阅文献，撰写评审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组织召开开题论证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设计问卷开展调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制订研究计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二阶段（实施阶段）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加强学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提高研究水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按照计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开展研究工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总结和提炼研究成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42960" y="99972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三阶段（总结阶段）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．分类整理资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课题研究活动中，要求成员认真参与课题研究工作，现阶段对撰写教学案例、学习记录及教研论文进行整理并装订成册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总结和提炼研究成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在课题研究中进一步确定了“情感诵读法”的基本教学程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对收集的“经典诵读素材”进行整理、筛选，并最终形成校本教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对整个研究过程进行梳理，总结研究成果，并最终完成研究报告的撰写。在这期间发表相关的论文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9E71-2145-4B87-B421-415E08A8BB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00040" y="999720"/>
            <a:ext cx="84549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九、研究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研究成果是研究目标的实现版本，如何落实研究目标均体现在研究成果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一）小学语文经典诗文诵读的课程设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经典诗文诵读课程的目标设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经典诗文诵读课程的课时设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经典诗文诵读教学内容设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8702-089E-43C8-92A0-374144C13D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5520" y="1500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二）小学语文经典诗文诵读课程的实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建立经典诵读诗文课程的实施保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编写经典诗文诵读校本教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探索经典诵读教学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丰富经典诵读活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完善经典诵读评价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6E02-CD1A-429A-B246-CC59358433C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81E6-027D-4319-9B02-53D77932B0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991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十、研究成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显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校形成了文明儒雅的校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教师的文化素养得到提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学生具有丰厚的文化底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物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发表论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师获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⑶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生获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46DE-5F19-4005-A656-DC5EA2E57B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14200" y="1412640"/>
            <a:ext cx="87408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十一、反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十二、参考文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13880" y="85716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研究报告的基本格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标题与署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课题的提出（背景、现实状况、目的意义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概念界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文献综述及创新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理论基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研究目标、内容、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研究过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研究成果与成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研究反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考文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字数要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8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字左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AAF2-8CEE-432C-A461-B42CC9F56A5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4B7-CA70-43D0-8200-3156390A43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标题、署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题目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研究报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署名：╳╳课题组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6104-A460-4104-B6FF-C4B97AA9CA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课题的提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研究背景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页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现实意义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注意：篇幅一般控制在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-1.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纸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字左右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0950-141B-407B-A07F-D278590168B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803088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概念的界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没有必要界定的概念可以不界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：高中化学实验教学的实践研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需要界定的概念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如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页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经典诗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经典诗文诵读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课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C53B-20BC-4060-B936-2D488C02C4B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712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文献综述及创新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选择与当前要研究的问题直接相关的研究结果（论文、报告）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注意要把相关的观点进行有效的分类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0—10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：（一）关于经典诵读的作用研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二）关于经典诵读教学策略的研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三）关于小学经典诵读中存在的问题研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创新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已有研究：经典诵读的作用、诵读的教学方法、现状及策略方面的论述，较少有对经典诵读课程开发和实施方面的研究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创新点：我们课题组抓住本校正在大力推动经典诵读的发展这一契机，从课程开发入手进行研究，力求寻找到经典诵读课程开发的正确方法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638-B97D-4C2E-AB2C-96F3BD120D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6800" y="1285560"/>
            <a:ext cx="798372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五、课题研究的理论基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常用的课题研究的理论基础有：建构主义理论、多元智能理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、人本主义理 、教学最优化理论 、教学理论 、心理学依据、哲学依据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理论基础和课题研究相关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一）人的全面发展理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二）儿童心理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三）永恒主义教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3AD5-61DD-416F-A730-2B88CBC9AD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六、课题的研究目标与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目标：研究目标必须具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常见存在问题是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写研究目标；目标扣题不紧；目标定得过于虚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构建适合我校的经典诗文诵读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校本课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使经典诵读课程成为我校的特色项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构建我校经典诗文诵读课程实施体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EED2-D69C-4E31-B4CF-879A045A694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1052640"/>
            <a:ext cx="756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研究内容是研究内容的具体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课程建设方面，主要围绕课程目标、课时安排和教学内容展开研究，确立我校经典诗文诵读校本课程基本框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课程实施方面，重点对管理措施、教材编制、实施途径、教学评价等方面展开研究，形成我校经典诗文诵读教学的运行方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通过经典诗文诵读课程的开发研究，把我校建设成经典诵读特色学校，提高学生的文化素养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40:57Z</dcterms:created>
  <dc:creator>hxz</dc:creator>
  <dc:description/>
  <dc:language>en-US</dc:language>
  <cp:lastModifiedBy>as</cp:lastModifiedBy>
  <dcterms:modified xsi:type="dcterms:W3CDTF">2021-04-28T00:42:51Z</dcterms:modified>
  <cp:revision>1770</cp:revision>
  <dc:subject/>
  <dc:title>PowerPoint 演示文稿</dc:title>
</cp:coreProperties>
</file>